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10BD-26DC-4170-83AD-49958C60E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4595-FE8D-4C73-8B50-F76DE29F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70DE-4928-4CFF-B8E9-E0C032C07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4310-B129-497E-9105-3690BC713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B93D3-3E04-46D0-93EA-300795C0B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D8571A-BD64-4EF3-B766-1CE93B7C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4CF26-5864-4E95-8A3E-FB82D19B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7F136-7B33-452D-84A4-7A79A986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C15DE-5010-4B23-9617-0A73FC9D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03CD1-7DCC-4486-86EC-D252C116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EBDC8-36AF-49CE-95BB-2A683163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EC78-43C5-48C1-A114-80C098FD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DAD2E-55BE-4168-BFC7-9BE5E2FE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A771D-FC48-4113-80B7-0093B235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75025-92C9-43C3-BC31-05573C5A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7D61A7-D226-4C00-8053-F8FBDEBFB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A5797-EFEB-4140-A485-5B8EF92A2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7D1B-C0F6-4966-B89B-84F1FDA2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1A73-00EC-47A5-8B71-E62A3750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7AFE-3690-489B-867C-F40A25C2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B967-4D8B-4C33-BF74-4A720D54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3EEF-0720-4455-9F31-B5411144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8FEF-0E0C-444D-9565-F79C1BB7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B225-E507-4C0B-B085-100959C0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fab"/>
              </a:gs>
              <a:gs pos="100000">
                <a:srgbClr val="66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9b5b8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eabae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63D4-D23D-4530-AA9C-5E71DC1108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fab"/>
              </a:gs>
              <a:gs pos="100000">
                <a:srgbClr val="66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9b5b8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eabae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EDFD-ADA1-4139-83A4-CE2125EBB1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edff"/>
                </a:solidFill>
                <a:latin typeface="Arial"/>
              </a:rPr>
              <a:t>A</a:t>
            </a: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s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95880" y="1600200"/>
            <a:ext cx="177336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ed very h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ved in c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ed a lot on plant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very skilled work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14:26:49Z</dcterms:created>
  <dc:creator>Joieree.Dawkins</dc:creator>
  <dc:description/>
  <dc:language>en-US</dc:language>
  <cp:lastModifiedBy>Joieree.Dawkins</cp:lastModifiedBy>
  <dcterms:modified xsi:type="dcterms:W3CDTF">2008-03-10T14:38:05Z</dcterms:modified>
  <cp:revision>2</cp:revision>
  <dc:subject/>
  <dc:title>A</dc:title>
</cp:coreProperties>
</file>